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244A-1ABC-430F-9B0F-36FE86E0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D98-4B9F-4018-BCEA-3A185268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E6DA-E02C-42E7-96AC-276B5145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A18-12BC-4E6B-8ADD-C48319D2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8A3F-96DE-4B24-AC71-9D931DAF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53D4-B6D3-4460-BCCF-036D6CAF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40F8-33AF-4AC6-96B7-7497E148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5D7D-596E-4245-A63D-1C2E8C8F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B6E8-354C-49F4-A0D8-7B2C5436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B597-1B76-4EF8-BD4D-4114074D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91F0-57DA-43CB-A16B-2F034247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6D5-6D8A-43D1-B628-FB2E6CA4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3500-789D-424A-9A02-9E4C81DE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AF9A-0357-4FEC-B3DA-E1B8B692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4D6F-FD0A-41EB-9208-C159AAE7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8FE4-037E-4918-808B-877039EB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D1B0-E194-4935-BDF9-C2602D71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61EB1-2208-42CD-A19E-DE203223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4B15-24AB-437D-BF24-59CE8329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FFE65-B251-49EF-A034-ACBA7A3F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B523F-5D56-4F04-9848-E6EEADF2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7D6D-24B1-429C-9262-062662F2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BB78-C047-49A3-9379-42092E38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73A36-D77A-40D0-A5D8-DA58BE09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BFFFD-F843-49BD-9299-AAACA613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611C-D564-4C58-B88C-3958A89D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104BC-20EA-4C54-BB37-13F395D6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12C45-82CA-4D3E-A76E-83CDE16A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08C05-CC52-4D77-AA73-1CDD19C7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6E9C3-9D8B-485F-9DEF-479A713A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3B350-74AE-48FA-8E3D-F6FE94E9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8723D-AD85-4BA6-A85B-5D40B0EB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3E00F-1C2D-42BD-8000-7AC13C38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943-BC66-49EC-9451-D81BEA48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BE272-8C86-4845-A963-C75325A8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278A-0420-4E23-A683-1E85C3B6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A6989-2007-45C8-97D6-AF6DAA65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6130B-EDFB-401C-BB3D-7DF6C365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DB1DD-8164-4FE9-B10D-F543B423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4CE7D-38C1-4D14-880F-4780A378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5D56F-F7EB-4886-8EFF-2BC8B857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50D8E-EA2A-411F-BF5F-5644E939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B33C6-4789-4580-9868-F78F74F3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8CB3-90B7-45BD-9EE2-9DA77418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CAA-E3BF-40E7-AD24-05F8DCCC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4BD-717A-4416-A8AB-67A4A183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675-09CD-4B4B-B20B-1C5716CA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C2F-52C4-42B7-8117-2D0D7728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52BD-27F0-48CD-BB83-DCEB2492086A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4DC4-33FE-46D8-B8DF-A0519128F314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D2F8-91E7-42B9-AFF4-85189A89E5F7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AEE5-A542-4957-9E3F-A10CC863FF92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828720"/>
            <a:ext cx="8070840" cy="1933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onstantia"/>
              </a:rPr>
              <a:t>Language promotion idea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7467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268280"/>
            <a:ext cx="746748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</a:rPr>
              <a:t>Submission writ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Include release for planning, and evaluat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Be clear about your proj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Link project to student learning outcom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Don’t be too ambitious. Make sure it is attainab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Try and involve as many staff members as possible in the proj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How will your project be sustained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Phone and talk through ide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iscus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How do you promote languages in your school? Are these strategies work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How do you encourage students to choose languages at subject selection tim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What role does the Careers Advisor play in promoting languages at your school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Why learn a Language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97000"/>
            <a:ext cx="746748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Assists in developing literacy skill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n-AU" sz="1400" spc="-1" strike="noStrike">
                <a:solidFill>
                  <a:srgbClr val="000000"/>
                </a:solidFill>
                <a:latin typeface="Constantia"/>
              </a:rPr>
              <a:t>Teaching literacy in Languages in Year 7 bookle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Improves cognitive ability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Fosters intercultural understandi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University incentive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Better career prospect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Another string to their bow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Plus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It’s fu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It will set you apart from the rest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It allows you to communicate with more girls/more boy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It is sexy!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It is impressive!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00"/>
                </a:solidFill>
                <a:latin typeface="Constantia"/>
              </a:rPr>
              <a:t>Advocacy resources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AIS languages websi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nstantia"/>
              </a:rPr>
              <a:t>http://www.aisnsw.edu.au/Services/PL/LanguagesSecondary/pages/default.aspx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What are the incentives for learning/continuing a language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2276640"/>
            <a:ext cx="7540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Linking in with Univers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Recognised by Universities – Students receive bonus points if they score Band 5 or 6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Constantia"/>
              </a:rPr>
              <a:t>http://www.go8.edu.au/__documents/university-staff/agreements/go8_lote_incentive_schemes.pd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EF MY Future resource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Constantia"/>
              </a:rPr>
              <a:t>http://www.myfuture.edu.au/asiaski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EF programs -  Ambassado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Guest speakers on Assembly – Ex- students, business community, NG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Key person – Careers Advis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3"/>
          <p:cNvSpPr/>
          <p:nvPr/>
        </p:nvSpPr>
        <p:spPr>
          <a:xfrm flipV="1" rot="10800000">
            <a:off x="457200" y="158004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f6fc6"/>
                </a:solidFill>
                <a:latin typeface="Century Schoolbook"/>
              </a:rPr>
              <a:t>Opportunities beyond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Strategies</a:t>
            </a:r>
            <a:br>
              <a:rPr sz="4500"/>
            </a:br>
            <a:r>
              <a:rPr b="0" lang="en-AU" sz="2400" spc="-1" strike="noStrike">
                <a:solidFill>
                  <a:srgbClr val="0f6fc6"/>
                </a:solidFill>
                <a:latin typeface="Calibri"/>
              </a:rPr>
              <a:t>Language days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966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Target Yr8 and Yr1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Promote it well, photos, video et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Collaborate with other schools- primary and secondary, boys and gir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Linking in with Universit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Ex students, guest speakers from Universities, business community to talk at assembl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Include all languages in school commun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Listen to students’ stori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4617b"/>
                </a:solidFill>
                <a:latin typeface="Calibri"/>
              </a:rPr>
              <a:t>Language days…more idea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nstantia"/>
              </a:rPr>
              <a:t>Involve parent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nstantia"/>
              </a:rPr>
              <a:t>Involve other departments (HSIE, RE, JS, Music, Art, IT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nstantia"/>
              </a:rPr>
              <a:t>Students MC special assembly in languages taugh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nstantia"/>
              </a:rPr>
              <a:t>Survey school population on languages spoken etc (Senior research project for Geography/Society &amp; culture etc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onstantia"/>
              </a:rPr>
              <a:t>Present research at school assembl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Raise money for charit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tantia"/>
              </a:rPr>
              <a:t>Prayers in different  languag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f6fc6"/>
                </a:solidFill>
                <a:latin typeface="Calibri"/>
              </a:rPr>
              <a:t>Whole school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052280"/>
            <a:ext cx="74674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Devise cross-curriculum Units of wor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Offer your expertise to other facul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Utilise staff/parent/student experti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Involve NSA in life of whole schoo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Involvement in external competi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MLTA Film competi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Alliance, Japan Foundation competi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Scholarship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Art gallery of NSW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AC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OZCL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Sister school collabor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Cross KLA involvement in Languages Da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Disseminate information widel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Signs in Language around schoo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95280" y="41497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f6fc6"/>
                </a:solidFill>
                <a:latin typeface="Calibri"/>
              </a:rPr>
              <a:t>Promoting Languages at faculty leve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000" y="1052640"/>
            <a:ext cx="7467480" cy="54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nstantia"/>
              </a:rPr>
              <a:t>Consistent terminolog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Use of ‘Languages’ rather than LO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nstantia"/>
              </a:rPr>
              <a:t>Promotion of progression and achievem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Easy to read programs on school portal for pare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Goals for each topic in student boo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Student checklists at end of each topi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Faculty-based achievement certificat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nstantia"/>
              </a:rPr>
              <a:t>Languages and literacy polic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nstantia"/>
              </a:rPr>
              <a:t>Subject choice evening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One page content planner showing progression and continuity of language learning in your schoo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Show parents the level language students reach by Yr 12(sample text, sample HSC paper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nstantia"/>
              </a:rPr>
              <a:t>Articles in school newsletter, School magazine, End of year repor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nstantia"/>
              </a:rPr>
              <a:t>Languages Newsletter </a:t>
            </a: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(once or twice a year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nstantia"/>
              </a:rPr>
              <a:t>Languages Noticeboar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f6fc6"/>
                </a:solidFill>
                <a:latin typeface="Calibri"/>
              </a:rPr>
              <a:t>Effective use of Grant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341360"/>
            <a:ext cx="7467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</a:rPr>
              <a:t>1. School language program 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program writing, resource development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integrating IT, IT hardware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teacher release, PD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collaboration with other school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specialist teacher salarie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development of Languages newsletter, DVD in language promoting your schoo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</a:rPr>
              <a:t>2. Parental polyglot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involving parent community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advertise widely, take photo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use evaluations for language promo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</a:rPr>
              <a:t>3. Lifting Languag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Languages Da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incurs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Languages newslet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website, port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collaboration with other schoo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</a:rPr>
              <a:t>4. Authentic Access </a:t>
            </a: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- Native speaker assista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involved with as many classes as possib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introduced to staf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interview with NSA in school newslet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</a:rPr>
              <a:t>5. Meaningful mentoring - </a:t>
            </a: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Professional develop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supporting new teach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extending experienced teach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nstantia"/>
              </a:rPr>
              <a:t>6. Enabling Electives – </a:t>
            </a: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Stage 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commitment from princip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sustainab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23:09:59Z</dcterms:created>
  <dc:creator>Merryl</dc:creator>
  <dc:description/>
  <dc:language>en-US</dc:language>
  <cp:lastModifiedBy>Merryl</cp:lastModifiedBy>
  <dcterms:modified xsi:type="dcterms:W3CDTF">2012-09-06T23:03:44Z</dcterms:modified>
  <cp:revision>46</cp:revision>
  <dc:subject/>
  <dc:title>Indonesian- A Priority language</dc:title>
</cp:coreProperties>
</file>